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4AF7-2DAF-49E8-AADB-D474C8E0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D28D-0703-42B9-B569-2604CF66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DC6C-3CFD-40BF-A107-89ADF674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11C9-3C32-40E1-928F-0DD2BD98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C6BB-5D52-43B5-999F-84861D53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628D-DBCE-4392-B1A9-485C1A11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E37F-F3D1-4420-8FE3-1D7849DD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2707-69FB-4CE8-9240-E16343B5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503C-5113-493B-9670-68637FA7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A14-24DF-48C7-8B7A-5FB813DB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A39B-A5FE-4A11-8A55-4DB1C83E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4314-94E2-45A2-BD56-B5D4FAA3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83C4-E4E9-483B-84E8-9C9C65908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sites.harvard.edu/icb/icb.do?keyword=datawise&amp;pageid=icb.page385820&amp;pageContentId=icb.pagecontent800691&amp;state=maximize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bstract-design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igh School Principal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ofessional Learning Community</a:t>
            </a:r>
            <a:br>
              <a:rPr sz="4000"/>
            </a:br>
            <a:r>
              <a:rPr b="1" lang="en-US" sz="4400" spc="-1" strike="noStrike">
                <a:solidFill>
                  <a:srgbClr val="215968"/>
                </a:solidFill>
                <a:latin typeface="Calibri"/>
              </a:rPr>
              <a:t>What story does the data tel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2514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Heather Davis Schmidt, Ed.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Missoula County Public Sch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February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bluewave-white-backgrounds-wallpaper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272960"/>
            <a:ext cx="7315200" cy="115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argets for today’s mee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2769840"/>
            <a:ext cx="7315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8720" indent="-51444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te questions about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8720" indent="-51444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e to a shared understanding of what we see in the da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8720" indent="-51444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toward a priority question to which we are committed to investig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8720" indent="-51444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872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90720" y="0"/>
            <a:ext cx="720396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hart 1" descr=""/>
          <p:cNvPicPr/>
          <p:nvPr/>
        </p:nvPicPr>
        <p:blipFill>
          <a:blip r:embed="rId1"/>
          <a:stretch/>
        </p:blipFill>
        <p:spPr>
          <a:xfrm>
            <a:off x="237960" y="285840"/>
            <a:ext cx="86680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art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46792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hart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92512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hart 1" descr=""/>
          <p:cNvPicPr/>
          <p:nvPr/>
        </p:nvPicPr>
        <p:blipFill>
          <a:blip r:embed="rId1"/>
          <a:stretch/>
        </p:blipFill>
        <p:spPr>
          <a:xfrm>
            <a:off x="378000" y="-6480"/>
            <a:ext cx="838800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hart 1" descr=""/>
          <p:cNvPicPr/>
          <p:nvPr/>
        </p:nvPicPr>
        <p:blipFill>
          <a:blip r:embed="rId1"/>
          <a:stretch/>
        </p:blipFill>
        <p:spPr>
          <a:xfrm>
            <a:off x="298440" y="225360"/>
            <a:ext cx="885204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summer-time_1600x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ata Wise Projec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vard Un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Excel and Power Point Tutori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IND THEM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3:55:33Z</dcterms:created>
  <dc:creator>HD</dc:creator>
  <dc:description/>
  <dc:language>en-US</dc:language>
  <cp:lastModifiedBy>HD</cp:lastModifiedBy>
  <dcterms:modified xsi:type="dcterms:W3CDTF">2012-02-15T14:29:54Z</dcterms:modified>
  <cp:revision>8</cp:revision>
  <dc:subject/>
  <dc:title>Slide 1</dc:title>
</cp:coreProperties>
</file>